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667640" y="3059280"/>
            <a:ext cx="576360" cy="5619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Descriptors of qualifications and 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2707920"/>
            <a:ext cx="7437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Dublin descriptors (generic)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(J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oint Quality Initiative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JQ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2856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nowledge a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2856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applying knowledge a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2856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making ju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2856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2856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ear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 subject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888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Principl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640" y="2565360"/>
            <a:ext cx="4967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arning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mpe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93892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3413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What is Outcomes Based Edu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565360"/>
            <a:ext cx="74883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Outcomes Based Education focuses on student learning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Using learning outcome statements to make explicit what the student is expected to be able to know, understand or 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Providing learning activities which will help the student to reach these outcom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Assessing the extent to which the student meets these outcomes through the use of explicit assessment cri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93892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13413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What are learning outco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781360"/>
            <a:ext cx="748836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 outcomes represent one of the essential building blocks for transparency within higher education systems and qualifications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 outcomes have been defined abov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1" i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S</a:t>
            </a: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tatements of what a learner is expected to know, </a:t>
            </a:r>
            <a:r>
              <a:rPr b="1" i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derstand and/or be able to do at the end of a period of</a:t>
            </a:r>
            <a:r>
              <a:rPr b="1" i="1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i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.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3413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Importance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2565360"/>
            <a:ext cx="748836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 outcomes have applications in many loca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Arial"/>
              <a:buAutoNum type="romanLcParenR"/>
              <a:tabLst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the individual higher education institution (for course units/modules and programmes of stud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Arial"/>
              <a:buAutoNum type="romanLcParenR"/>
              <a:tabLst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tionally (for qualifications, qualifications frameworks and quality assurance regimes);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Arial"/>
              <a:buAutoNum type="romanLcParenR"/>
              <a:tabLst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internationally (for wider recognition and transparency purpos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They are important for the understanding of qualifications in society, for example by learners and emplo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476280"/>
            <a:ext cx="741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3366"/>
                </a:solidFill>
                <a:latin typeface="Arial"/>
                <a:ea typeface="Arial"/>
              </a:rPr>
              <a:t>Outcomes Based Edu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66"/>
                </a:solidFill>
                <a:latin typeface="Arial"/>
                <a:ea typeface="Arial"/>
              </a:rPr>
              <a:t>stages in the backward design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92360" y="1844640"/>
          <a:ext cx="61182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61182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56400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ish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prov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kak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3640" y="1341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Implications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637000"/>
            <a:ext cx="748836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 outcomes statements are typically characterised by the use of active verbs expressing knowledge, comprehension, application, analysis, synthesis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,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valuation,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creation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hey have implications for qualifications, curriculum design, teaching, learning and assessment, as well as quality assur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93892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63640" y="836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Outcomes Based Education at the Programm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349360"/>
            <a:ext cx="7488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The graduate outcomes for a degree are clearly written statements about the knowledge, skills and attitudes of its gradu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Graduate outcomes are developed from a number of sources including professional accreditation bodies,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employer groups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, the university educational principles and the professional experience of staff teaching in the discip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Graduate outcomes represent the subject matter, techniques, skills and attitudes of central importance to the chosen discipline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Arial"/>
              </a:rPr>
              <a:t>From these outcomes the curriculum of the course is constructed, the subdivision of structure into units is made, and the outcomes specific to each of the units are deri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6560" y="476280"/>
            <a:ext cx="76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3366"/>
                </a:solidFill>
                <a:latin typeface="Arial"/>
                <a:ea typeface="Arial"/>
              </a:rPr>
              <a:t>Dynamic Quality Assessment Cy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4560" y="1413000"/>
            <a:ext cx="6913440" cy="48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6049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The concept of 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713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mpetence is defined as the ability to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eet demands or carry out a task successfully, and consists of both cognitive and noncognitiv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m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hr-HR" sz="1600" spc="-1" strike="noStrike">
                <a:solidFill>
                  <a:srgbClr val="003366"/>
                </a:solidFill>
                <a:latin typeface="Arial"/>
              </a:rPr>
              <a:t>Definition ans selection of competencies: Theoretical and conceptual foundations (OECD - DeSeCo,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4221000"/>
            <a:ext cx="727236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Competences that are important across multiple areas of life and that contribute to an overall successful life and a well-functioning soci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i="1" lang="hr-HR" sz="1600" spc="-1" strike="noStrike">
                <a:solidFill>
                  <a:srgbClr val="003366"/>
                </a:solidFill>
                <a:latin typeface="Arial"/>
                <a:ea typeface="Arial"/>
              </a:rPr>
              <a:t>Definition ans selection of competencies: Theoretical and conceptual foundations (OECD - DeSeCo,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3429000"/>
            <a:ext cx="72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  <a:ea typeface="Arial"/>
              </a:rPr>
              <a:t>The concept of 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key 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  <a:ea typeface="Arial"/>
              </a:rPr>
              <a:t>competence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1844280"/>
            <a:ext cx="8137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national qualification framework and the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learning outcomes based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7920" y="3933360"/>
            <a:ext cx="6786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66"/>
                </a:solidFill>
                <a:latin typeface="Arial"/>
              </a:rPr>
              <a:t>Petar Bezinovi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University of Rijeka </a:t>
            </a: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 Institute for Social Research in Zagr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97160" y="5227560"/>
            <a:ext cx="635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irst Croatian Bologna Seminar: </a:t>
            </a:r>
            <a:br>
              <a:rPr sz="1400"/>
            </a:b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Quality of higher education and adjustment to employment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ternational Center for Education of Journalists – IC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patija, 4 – 5 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1117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76000" cy="561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822240" y="0"/>
            <a:ext cx="8321760" cy="6489720"/>
            <a:chOff x="822240" y="0"/>
            <a:chExt cx="8321760" cy="6489720"/>
          </a:xfrm>
        </p:grpSpPr>
        <p:sp>
          <p:nvSpPr>
            <p:cNvPr id="48" name=""/>
            <p:cNvSpPr/>
            <p:nvPr/>
          </p:nvSpPr>
          <p:spPr>
            <a:xfrm>
              <a:off x="823680" y="1084320"/>
              <a:ext cx="7037640" cy="139680"/>
            </a:xfrm>
            <a:prstGeom prst="rect">
              <a:avLst/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2240" y="6369120"/>
              <a:ext cx="8321760" cy="12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4884"/>
                </a:gs>
                <a:gs pos="100000">
                  <a:srgbClr val="ebeb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869240" y="0"/>
              <a:ext cx="1249200" cy="1244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383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The concept of 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1287360"/>
            <a:ext cx="756108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67676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Recent initiatives in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2720520"/>
            <a:ext cx="79311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utcomes based secondary school-leaving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velopment of national qualifications framework in vocational education according to Copenhagen declaration </a:t>
            </a:r>
            <a:r>
              <a:rPr b="0" i="1" lang="hr-HR" sz="1600" spc="-1" strike="noStrike">
                <a:solidFill>
                  <a:srgbClr val="003366"/>
                </a:solidFill>
                <a:latin typeface="Arial"/>
              </a:rPr>
              <a:t>(Declaration of the European Ministers of Vocational Education and Training, and the European Commission, on enhanced European cooperation in vocational education and training - The Copenhagen Declaration, November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93892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681280"/>
            <a:ext cx="73440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A Framework for Qualifications of the European Higher Education Area </a:t>
            </a:r>
            <a:r>
              <a:rPr b="0" lang="hr-HR" sz="1600" spc="-1" strike="noStrike">
                <a:solidFill>
                  <a:srgbClr val="003366"/>
                </a:solidFill>
                <a:latin typeface="Arial"/>
                <a:ea typeface="Arial"/>
              </a:rPr>
              <a:t>(Bologna Working Group on Qualifications Frame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Learning Outcomes Based Approach (OB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  <a:ea typeface="Arial"/>
              </a:rPr>
              <a:t>Croatian OBE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197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  <a:ea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573696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THE BOLOGNA PROCESS</a:t>
            </a:r>
            <a:br>
              <a:rPr sz="3200"/>
            </a:b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Prague </a:t>
            </a:r>
            <a:r>
              <a:rPr b="1" i="1" lang="hr-HR" sz="2400" spc="-1" strike="noStrike">
                <a:solidFill>
                  <a:srgbClr val="003366"/>
                </a:solidFill>
                <a:latin typeface="Arial"/>
              </a:rPr>
              <a:t>2001</a:t>
            </a: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, Berlin </a:t>
            </a:r>
            <a:r>
              <a:rPr b="1" i="1" lang="hr-HR" sz="2400" spc="-1" strike="noStrike">
                <a:solidFill>
                  <a:srgbClr val="003366"/>
                </a:solidFill>
                <a:latin typeface="Arial"/>
              </a:rPr>
              <a:t>2003</a:t>
            </a: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, next stop Bergen </a:t>
            </a:r>
            <a:r>
              <a:rPr b="1" i="1" lang="hr-HR" sz="2400" spc="-1" strike="noStrike">
                <a:solidFill>
                  <a:srgbClr val="0033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1880" y="2923920"/>
            <a:ext cx="7872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ologna Declaration (19 June 1999) involves six 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A system of academic grades which are easy to read and 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A system based on two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A system of accumulation and transfer of credits (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Mobility of students, teacher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343080">
              <a:spcBef>
                <a:spcPts val="451"/>
              </a:spcBef>
              <a:buClr>
                <a:srgbClr val="28566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he European dimension of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he aim of the process – the higher education system converge towards a more transparent system –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the different national systems would use a comm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Qualifications Framework: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rlin communiq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1880" y="2924280"/>
            <a:ext cx="7872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75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nisters encourage the member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ates to elaborate a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amework of comparable and compatible qualifications for their higher education systems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laborate an overarching framework of qualifications for the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European Higher Education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 mak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er education systems more transparent and to enhance the quality of European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er education at institutional and national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Basic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665080"/>
            <a:ext cx="74170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75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Qualifications are national according to national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Qualifications are articulated/located in national qualifications fra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40 national frameworks are linked together through an alignment to an overarching framework of the E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593892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360" y="1341000"/>
            <a:ext cx="7970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National Qualifications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0240" y="2781360"/>
            <a:ext cx="7823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e single description at national level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hich is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nternationally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nderstood and through which all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qualifications and other learning achievements in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higher education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ay be described and related to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ach other in a coherent way and which defines the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lationship between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higher education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qual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lifications are increasingly expressed in terms of what 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expected to know, understand and/or be able to demonstrate on the successful completion of the approved programme of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593856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78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Why overarching 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EHEA 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fra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2997360"/>
            <a:ext cx="72007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tional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tional recognition of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856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tional mobility of learners and 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36092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Compatibility between 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national 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the EHEA framework</a:t>
            </a: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 - some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national framework for higher education qualifications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 the body responsible for its development ar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signated by the national ministry with responsibility for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re is a clear and demonstrable link between th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qualifications in the national framework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ycle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qualification descripto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of the Europea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national framework and its qualifications ar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monstrabl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ased on learning outcome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and th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qualifications are linked to ECTS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938920" cy="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7:49:48Z</dcterms:created>
  <dc:creator>Petar Bezinović</dc:creator>
  <dc:description/>
  <dc:language>en-US</dc:language>
  <cp:lastModifiedBy>valerio</cp:lastModifiedBy>
  <dcterms:modified xsi:type="dcterms:W3CDTF">2007-07-11T09:43:22Z</dcterms:modified>
  <cp:revision>20</cp:revision>
  <dc:subject/>
  <dc:title>Learning outcomes based education</dc:title>
</cp:coreProperties>
</file>