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1DE5-04E3-4337-9CF2-1FE81EF65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922A-3C37-49D7-B91B-FABF0135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59E4-AA34-4724-BF3A-988E8AC5E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8F0D-AB20-4D92-9D05-06C6DFEC6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3919-3350-4666-B924-D643F8F8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9D1D-9F97-4D14-8AB8-531B31CC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B4E5-F7BD-4D30-B9DE-120D926F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10CC-87DB-49D3-AB72-54D47A0D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E012-4EE2-49D7-9E1A-53200004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2E0F-4CF8-49AC-96DF-66C8927B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650D-76D9-4658-8E90-058937AC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A306-2260-43CD-9BDF-8E0F9DDB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3D02-8C22-4BC6-848A-22A2D7404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asellaDiTesto 3"/>
          <p:cNvSpPr/>
          <p:nvPr/>
        </p:nvSpPr>
        <p:spPr>
          <a:xfrm>
            <a:off x="0" y="0"/>
            <a:ext cx="9144000" cy="16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REZIONE GENERALE PER L’ISTRUZIONE E FORMAZIONE TECNICA SUPERIORE E PER I RAPPORTI CON I SISTEMI FORMATIVI DELLE REGIONI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alibri"/>
                <a:ea typeface="ＭＳ Ｐゴシック"/>
              </a:rPr>
              <a:t>A.S. 2012-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1" lang="en-US" sz="1200" spc="-1" strike="noStrike" u="sng">
                <a:solidFill>
                  <a:srgbClr val="ff3300"/>
                </a:solidFill>
                <a:uFillTx/>
                <a:latin typeface="Times New Roman"/>
              </a:rPr>
              <a:t>2.006  PERCORSI  QUINQUENNALI    STATALI  - ISTRUZIONE TECNICA    (</a:t>
            </a:r>
            <a:r>
              <a:rPr b="1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875</a:t>
            </a:r>
            <a:r>
              <a:rPr b="1" lang="en-US" sz="1200" spc="-1" strike="noStrike" u="sng">
                <a:solidFill>
                  <a:srgbClr val="ff3300"/>
                </a:solidFill>
                <a:uFillTx/>
                <a:latin typeface="Times New Roman"/>
              </a:rPr>
              <a:t> mila studenti  </a:t>
            </a:r>
            <a:r>
              <a:rPr b="1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32,0% </a:t>
            </a:r>
            <a:r>
              <a:rPr b="1" lang="en-US" sz="1200" spc="-1" strike="noStrike" u="sng">
                <a:solidFill>
                  <a:srgbClr val="ff3300"/>
                </a:solidFill>
                <a:uFillTx/>
                <a:latin typeface="Times New Roman"/>
              </a:rPr>
              <a:t>) - 1056 ORE ANN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3300"/>
                </a:solidFill>
                <a:uFillTx/>
                <a:latin typeface="Times New Roman"/>
              </a:rPr>
              <a:t>1.126  PERCORSI  QUINQUENNALI  STATALI - ISTRUZIONE PROFESSIONALE   (</a:t>
            </a:r>
            <a:r>
              <a:rPr b="1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545</a:t>
            </a:r>
            <a:r>
              <a:rPr b="1" lang="en-US" sz="1200" spc="-1" strike="noStrike" u="sng">
                <a:solidFill>
                  <a:srgbClr val="ff3300"/>
                </a:solidFill>
                <a:uFillTx/>
                <a:latin typeface="Times New Roman"/>
              </a:rPr>
              <a:t>  mila studenti  </a:t>
            </a:r>
            <a:r>
              <a:rPr b="1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21,4%</a:t>
            </a:r>
            <a:r>
              <a:rPr b="1" lang="en-US" sz="1200" spc="-1" strike="noStrike" u="sng">
                <a:solidFill>
                  <a:srgbClr val="ff3300"/>
                </a:solidFill>
                <a:uFillTx/>
                <a:latin typeface="Times New Roman"/>
              </a:rPr>
              <a:t>) - 1056 ORE ANNUE</a:t>
            </a: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si sono iscritti alle prime classi  + 1,5% allievi per gli Istituti Professionali; + 0,4% per gli Istituti Tecnici -  totale pari al  </a:t>
            </a: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53,4%</a:t>
            </a: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CasellaDiTesto 4"/>
          <p:cNvSpPr/>
          <p:nvPr/>
        </p:nvSpPr>
        <p:spPr>
          <a:xfrm>
            <a:off x="133200" y="1125360"/>
            <a:ext cx="892836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</a:t>
            </a:r>
            <a:r>
              <a:rPr b="1" lang="it-IT" sz="13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IeFP</a:t>
            </a:r>
            <a:r>
              <a:rPr b="1" lang="it-IT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          </a:t>
            </a:r>
            <a:r>
              <a:rPr b="1" lang="it-IT" sz="13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Integrativa </a:t>
            </a:r>
            <a:r>
              <a:rPr b="1" lang="it-IT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1" lang="it-IT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- prevede nell’ambito del percorso di Istruzione Professionale statale quinquennale, </a:t>
            </a:r>
            <a:r>
              <a:rPr b="1" lang="it-IT" sz="10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anche l’acquisizione</a:t>
            </a:r>
            <a:r>
              <a:rPr b="1" lang="it-IT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, dopo il terz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</a:t>
            </a:r>
            <a:r>
              <a:rPr b="1" lang="it-IT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 regime di                                                         anno, di una delle 22 qualifiche di IeFP Regionali  : </a:t>
            </a:r>
            <a:r>
              <a:rPr b="1" lang="it-IT" sz="10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numero allievi iscritti  </a:t>
            </a:r>
            <a:r>
              <a:rPr b="1" lang="it-IT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 1° anno </a:t>
            </a:r>
            <a:r>
              <a:rPr b="1" lang="it-IT" sz="10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67.373.</a:t>
            </a:r>
            <a:r>
              <a:rPr b="1" lang="it-IT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sussidiarietà </a:t>
            </a:r>
            <a:r>
              <a:rPr b="1" lang="it-IT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</a:t>
            </a:r>
            <a:r>
              <a:rPr b="1" lang="it-IT" sz="12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Complementare</a:t>
            </a:r>
            <a:r>
              <a:rPr b="1" lang="it-IT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- </a:t>
            </a:r>
            <a:r>
              <a:rPr b="1" lang="it-IT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evede l’attivazione di classi finalizzate </a:t>
            </a:r>
            <a:r>
              <a:rPr b="1" lang="it-IT" sz="10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soltanto al conseguimento </a:t>
            </a:r>
            <a:r>
              <a:rPr b="1" lang="it-IT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 una delle 22 qualifich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prima annualità</a:t>
            </a:r>
            <a:r>
              <a:rPr b="1" lang="it-IT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                                </a:t>
            </a:r>
            <a:r>
              <a:rPr b="1" lang="it-IT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iennali IeFP : </a:t>
            </a:r>
            <a:r>
              <a:rPr b="1" lang="it-IT" sz="10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numero allievi iscritti  </a:t>
            </a:r>
            <a:r>
              <a:rPr b="1" lang="it-IT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 1° anno </a:t>
            </a:r>
            <a:r>
              <a:rPr b="1" lang="it-IT" sz="10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5.91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CasellaDiTesto 6"/>
          <p:cNvSpPr/>
          <p:nvPr/>
        </p:nvSpPr>
        <p:spPr>
          <a:xfrm>
            <a:off x="2125800" y="2211480"/>
            <a:ext cx="2808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ff0000"/>
                </a:solidFill>
                <a:uFillTx/>
                <a:latin typeface="Calibri"/>
                <a:ea typeface="ＭＳ Ｐゴシック"/>
              </a:rPr>
              <a:t>IeFP</a:t>
            </a:r>
            <a:r>
              <a:rPr b="1" lang="it-IT" sz="14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  - 990 ore an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Totale gene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248.006 stude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CasellaDiTesto 8" descr=""/>
          <p:cNvPicPr/>
          <p:nvPr/>
        </p:nvPicPr>
        <p:blipFill>
          <a:blip r:embed="rId1"/>
          <a:stretch/>
        </p:blipFill>
        <p:spPr>
          <a:xfrm>
            <a:off x="49320" y="3157560"/>
            <a:ext cx="4467240" cy="1103400"/>
          </a:xfrm>
          <a:prstGeom prst="rect">
            <a:avLst/>
          </a:prstGeom>
          <a:ln w="0">
            <a:noFill/>
          </a:ln>
        </p:spPr>
      </p:pic>
      <p:pic>
        <p:nvPicPr>
          <p:cNvPr id="45" name="CasellaDiTesto 9" descr=""/>
          <p:cNvPicPr/>
          <p:nvPr/>
        </p:nvPicPr>
        <p:blipFill>
          <a:blip r:embed="rId2"/>
          <a:stretch/>
        </p:blipFill>
        <p:spPr>
          <a:xfrm>
            <a:off x="4516560" y="3157560"/>
            <a:ext cx="4298760" cy="1103400"/>
          </a:xfrm>
          <a:prstGeom prst="rect">
            <a:avLst/>
          </a:prstGeom>
          <a:ln w="0">
            <a:noFill/>
          </a:ln>
        </p:spPr>
      </p:pic>
      <p:sp>
        <p:nvSpPr>
          <p:cNvPr id="46" name="Parentesi graffa aperta 1"/>
          <p:cNvSpPr/>
          <p:nvPr/>
        </p:nvSpPr>
        <p:spPr>
          <a:xfrm>
            <a:off x="1182600" y="1359000"/>
            <a:ext cx="123840" cy="691920"/>
          </a:xfrm>
          <a:custGeom>
            <a:avLst/>
            <a:gdLst>
              <a:gd name="textAreaLeft" fmla="*/ 79200 w 123840"/>
              <a:gd name="textAreaRight" fmla="*/ 124200 w 123840"/>
              <a:gd name="textAreaTop" fmla="*/ 2880 h 691920"/>
              <a:gd name="textAreaBottom" fmla="*/ 689040 h 691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"/>
                  <a:pt x="10800" y="322"/>
                </a:cubicBezTo>
                <a:lnTo>
                  <a:pt x="10800" y="10478"/>
                </a:lnTo>
                <a:cubicBezTo>
                  <a:pt x="10800" y="10639"/>
                  <a:pt x="5400" y="10800"/>
                  <a:pt x="0" y="10800"/>
                </a:cubicBezTo>
                <a:cubicBezTo>
                  <a:pt x="5400" y="10800"/>
                  <a:pt x="10800" y="10961"/>
                  <a:pt x="10800" y="11122"/>
                </a:cubicBezTo>
                <a:lnTo>
                  <a:pt x="10800" y="21278"/>
                </a:lnTo>
                <a:cubicBezTo>
                  <a:pt x="10800" y="21439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asellaDiTesto 2"/>
          <p:cNvSpPr/>
          <p:nvPr/>
        </p:nvSpPr>
        <p:spPr>
          <a:xfrm>
            <a:off x="4889520" y="2178000"/>
            <a:ext cx="394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’interno degli Istituti   Professionali :    </a:t>
            </a:r>
            <a:r>
              <a:rPr b="1" lang="en-US" sz="1200" spc="-1" strike="noStrike">
                <a:solidFill>
                  <a:srgbClr val="00b050"/>
                </a:solidFill>
                <a:latin typeface="Calibri"/>
                <a:ea typeface="ＭＳ Ｐゴシック"/>
              </a:rPr>
              <a:t>117.6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arentesi graffa aperta 15"/>
          <p:cNvSpPr/>
          <p:nvPr/>
        </p:nvSpPr>
        <p:spPr>
          <a:xfrm>
            <a:off x="4710240" y="2349360"/>
            <a:ext cx="149040" cy="331920"/>
          </a:xfrm>
          <a:custGeom>
            <a:avLst/>
            <a:gdLst>
              <a:gd name="textAreaLeft" fmla="*/ 95400 w 149040"/>
              <a:gd name="textAreaRight" fmla="*/ 149400 w 149040"/>
              <a:gd name="textAreaTop" fmla="*/ 1800 h 331920"/>
              <a:gd name="textAreaBottom" fmla="*/ 330120 h 331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7"/>
                  <a:pt x="10800" y="433"/>
                </a:cubicBezTo>
                <a:lnTo>
                  <a:pt x="10800" y="10367"/>
                </a:lnTo>
                <a:cubicBezTo>
                  <a:pt x="10800" y="10584"/>
                  <a:pt x="5400" y="10800"/>
                  <a:pt x="0" y="10800"/>
                </a:cubicBezTo>
                <a:cubicBezTo>
                  <a:pt x="5400" y="10800"/>
                  <a:pt x="10800" y="11017"/>
                  <a:pt x="10800" y="11233"/>
                </a:cubicBezTo>
                <a:lnTo>
                  <a:pt x="10800" y="21167"/>
                </a:lnTo>
                <a:cubicBezTo>
                  <a:pt x="10800" y="21384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asellaDiTesto 5"/>
          <p:cNvSpPr/>
          <p:nvPr/>
        </p:nvSpPr>
        <p:spPr>
          <a:xfrm>
            <a:off x="4902120" y="2341440"/>
            <a:ext cx="4203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  all’interno delle strutture formative regionali   accreditate :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</a:t>
            </a:r>
            <a:r>
              <a:rPr b="1" lang="en-US" sz="1200" spc="-1" strike="noStrike">
                <a:solidFill>
                  <a:srgbClr val="1005e9"/>
                </a:solidFill>
                <a:latin typeface="Calibri"/>
                <a:ea typeface="ＭＳ Ｐゴシック"/>
              </a:rPr>
              <a:t>130.3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onnettore 1 11"/>
          <p:cNvSpPr/>
          <p:nvPr/>
        </p:nvSpPr>
        <p:spPr>
          <a:xfrm>
            <a:off x="1874880" y="2965320"/>
            <a:ext cx="3736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Connettore 2 13"/>
          <p:cNvCxnSpPr/>
          <p:nvPr/>
        </p:nvCxnSpPr>
        <p:spPr>
          <a:xfrm>
            <a:off x="1874520" y="2968560"/>
            <a:ext cx="1080" cy="216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" name="Connettore 2 23"/>
          <p:cNvCxnSpPr/>
          <p:nvPr/>
        </p:nvCxnSpPr>
        <p:spPr>
          <a:xfrm>
            <a:off x="5611320" y="2965320"/>
            <a:ext cx="1080" cy="216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" name="Connettore 1 17"/>
          <p:cNvSpPr/>
          <p:nvPr/>
        </p:nvSpPr>
        <p:spPr>
          <a:xfrm>
            <a:off x="3529080" y="2919240"/>
            <a:ext cx="0" cy="4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asellaDiTesto 20"/>
          <p:cNvSpPr/>
          <p:nvPr/>
        </p:nvSpPr>
        <p:spPr>
          <a:xfrm>
            <a:off x="3651120" y="4581360"/>
            <a:ext cx="1497240" cy="1220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0000"/>
                </a:solidFill>
                <a:uFillTx/>
                <a:latin typeface="Calibri"/>
                <a:ea typeface="ＭＳ Ｐゴシック"/>
              </a:rPr>
              <a:t>Istruzione degli Adulti e Corsi Ser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428.625 iscrizio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asellaDiTesto 21"/>
          <p:cNvSpPr/>
          <p:nvPr/>
        </p:nvSpPr>
        <p:spPr>
          <a:xfrm>
            <a:off x="5435640" y="4581360"/>
            <a:ext cx="1568520" cy="1280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0000"/>
                </a:solidFill>
                <a:uFillTx/>
                <a:latin typeface="Calibri"/>
                <a:ea typeface="ＭＳ Ｐゴシック"/>
              </a:rPr>
              <a:t>Alternanza Scuola-Lavo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161.000 stude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asellaDiTesto 22"/>
          <p:cNvSpPr/>
          <p:nvPr/>
        </p:nvSpPr>
        <p:spPr>
          <a:xfrm>
            <a:off x="7164360" y="4581360"/>
            <a:ext cx="1650960" cy="1250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0000"/>
                </a:solidFill>
                <a:uFillTx/>
                <a:latin typeface="Calibri"/>
                <a:ea typeface="ＭＳ Ｐゴシック"/>
              </a:rPr>
              <a:t>Impresa Formativa Simul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7.000  stude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24000" y="6021360"/>
          <a:ext cx="8513640" cy="216000"/>
        </p:xfrm>
        <a:graphic>
          <a:graphicData uri="http://schemas.openxmlformats.org/drawingml/2006/table">
            <a:tbl>
              <a:tblPr/>
              <a:tblGrid>
                <a:gridCol w="8513640"/>
              </a:tblGrid>
              <a:tr h="21600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e03bd"/>
                          </a:solidFill>
                          <a:latin typeface="Times New Roman"/>
                          <a:ea typeface="Times New Roman"/>
                        </a:rPr>
                        <a:t>Numero  allievi  iscritti  al</a:t>
                      </a:r>
                      <a:r>
                        <a:rPr b="1" lang="en-US" sz="12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1° an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CasellaDiTesto 5"/>
          <p:cNvSpPr/>
          <p:nvPr/>
        </p:nvSpPr>
        <p:spPr>
          <a:xfrm>
            <a:off x="0" y="2276640"/>
            <a:ext cx="8618400" cy="2014200"/>
          </a:xfrm>
          <a:prstGeom prst="rect">
            <a:avLst/>
          </a:pr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7840" y="6381720"/>
            <a:ext cx="779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6524640"/>
            <a:ext cx="7201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4508640"/>
            <a:ext cx="2808000" cy="1545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Calibri"/>
              </a:rPr>
              <a:t>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N. 62 (con 80 corsi attivati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ltre </a:t>
            </a:r>
            <a:r>
              <a:rPr b="1" lang="en-US" sz="1000" spc="-1" strike="noStrike">
                <a:solidFill>
                  <a:srgbClr val="ff0000"/>
                </a:solidFill>
                <a:latin typeface="Calibri"/>
              </a:rPr>
              <a:t>2 mila studenti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 effettivamente frequentan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Calibri"/>
              </a:rPr>
              <a:t>Triennali</a:t>
            </a:r>
            <a:r>
              <a:rPr b="1" lang="en-US" sz="11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n.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(Gallarate – VA)  (2800 – 3000 or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22320" y="11556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stituti Tecnici</a:t>
            </a: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su 100 domande di iscrizione alla classe pri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S. 2012-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Segnaposto contenuto 7"/>
          <p:cNvGraphicFramePr/>
          <p:nvPr/>
        </p:nvGraphicFramePr>
        <p:xfrm>
          <a:off x="766800" y="1557360"/>
          <a:ext cx="7753320" cy="48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Segnaposto contenuto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1557360"/>
                    <a:ext cx="775332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2556000" y="6400800"/>
            <a:ext cx="496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22320" y="11556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stituti  Professionali</a:t>
            </a: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su 100 domande di iscrizione alla classe pri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S. 2012-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Segnaposto contenuto 7"/>
          <p:cNvGraphicFramePr/>
          <p:nvPr/>
        </p:nvGraphicFramePr>
        <p:xfrm>
          <a:off x="468360" y="1341360"/>
          <a:ext cx="8280360" cy="475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Segnaposto contenuto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8280360" cy="47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042920" y="6308640"/>
            <a:ext cx="741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10:04:10Z</dcterms:created>
  <dc:creator>MIUR</dc:creator>
  <dc:description/>
  <dc:language>en-US</dc:language>
  <cp:lastModifiedBy>MIUR</cp:lastModifiedBy>
  <dcterms:modified xsi:type="dcterms:W3CDTF">2012-09-26T10:04:54Z</dcterms:modified>
  <cp:revision>1</cp:revision>
  <dc:subject/>
  <dc:title>Diapositiva 1</dc:title>
</cp:coreProperties>
</file>