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032-ADE6-4EC8-9A52-BA49E5A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CCD-9FEE-443F-8429-B3575D9E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62A-0929-4EC5-9136-AAA4D9DD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CB8-8304-4729-BFFD-4F85D50F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212-5211-4292-850A-A40CBBD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5C7-3564-498E-8924-336FCEBB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6D2-4804-4F67-925C-BB52915C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00B-8E05-4AA4-9FE9-5D16B3C5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27A-84D9-403C-A1BF-A63A908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CF4-BD85-4C48-AC70-9B95C66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BF9-E8FE-4E68-8ABA-7E5F762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3FB-EABA-480A-822F-3AD7B85C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70DCC-109A-497D-90D7-A5232412556D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75445-91D5-4388-87FB-AF2DF987379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173040" y="163080"/>
            <a:ext cx="5767560" cy="652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HI SO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I SALESIANI DI DON BOS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magine 3" descr="donbosco 1.jpg"/>
          <p:cNvPicPr/>
          <p:nvPr/>
        </p:nvPicPr>
        <p:blipFill>
          <a:blip r:embed="rId1"/>
          <a:stretch/>
        </p:blipFill>
        <p:spPr>
          <a:xfrm>
            <a:off x="34920" y="1117440"/>
            <a:ext cx="3138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magine 6" descr="SDB-1058.gif"/>
          <p:cNvPicPr/>
          <p:nvPr/>
        </p:nvPicPr>
        <p:blipFill>
          <a:blip r:embed="rId1"/>
          <a:stretch/>
        </p:blipFill>
        <p:spPr>
          <a:xfrm>
            <a:off x="2344680" y="0"/>
            <a:ext cx="4051440" cy="3741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4760" y="3741840"/>
            <a:ext cx="8925120" cy="28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BRASILE, ARGENTIN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URUGUAY, CILE E PARAGU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2519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magine 4" descr="donbosco 4.jpg"/>
          <p:cNvPicPr/>
          <p:nvPr/>
        </p:nvPicPr>
        <p:blipFill>
          <a:blip r:embed="rId1"/>
          <a:stretch/>
        </p:blipFill>
        <p:spPr>
          <a:xfrm>
            <a:off x="2805120" y="119160"/>
            <a:ext cx="3317760" cy="365580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5"/>
          <p:cNvSpPr/>
          <p:nvPr/>
        </p:nvSpPr>
        <p:spPr>
          <a:xfrm>
            <a:off x="479520" y="4199040"/>
            <a:ext cx="80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119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magine 8" descr="donbosco 26.jpg"/>
          <p:cNvPicPr/>
          <p:nvPr/>
        </p:nvPicPr>
        <p:blipFill>
          <a:blip r:embed="rId1"/>
          <a:stretch/>
        </p:blipFill>
        <p:spPr>
          <a:xfrm>
            <a:off x="3025800" y="0"/>
            <a:ext cx="3048120" cy="3887640"/>
          </a:xfrm>
          <a:prstGeom prst="rect">
            <a:avLst/>
          </a:prstGeom>
          <a:ln w="0">
            <a:noFill/>
          </a:ln>
        </p:spPr>
      </p:pic>
      <p:sp>
        <p:nvSpPr>
          <p:cNvPr id="64" name="CasellaDiTesto 3"/>
          <p:cNvSpPr/>
          <p:nvPr/>
        </p:nvSpPr>
        <p:spPr>
          <a:xfrm>
            <a:off x="557280" y="4108320"/>
            <a:ext cx="79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ASIA EST OCE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9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magine 4" descr="donbosco 4.jpg"/>
          <p:cNvPicPr/>
          <p:nvPr/>
        </p:nvPicPr>
        <p:blipFill>
          <a:blip r:embed="rId1"/>
          <a:stretch/>
        </p:blipFill>
        <p:spPr>
          <a:xfrm>
            <a:off x="2805120" y="119160"/>
            <a:ext cx="3317760" cy="365580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3"/>
          <p:cNvSpPr/>
          <p:nvPr/>
        </p:nvSpPr>
        <p:spPr>
          <a:xfrm>
            <a:off x="181080" y="396576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TO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Scuole professionali 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4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1279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487320" y="171000"/>
            <a:ext cx="550548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L'IMPORTANZA DELLA FORMAZIONE PROFESS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Don Bosco, nella sua opzione educativa pastorale per i giovani bisognosi, ebbe 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grande preoccup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per il mondo del lavor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magine 5" descr="donbosco 13a.jpg"/>
          <p:cNvPicPr/>
          <p:nvPr/>
        </p:nvPicPr>
        <p:blipFill>
          <a:blip r:embed="rId1"/>
          <a:stretch/>
        </p:blipFill>
        <p:spPr>
          <a:xfrm>
            <a:off x="0" y="1116000"/>
            <a:ext cx="34876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487320" y="171000"/>
            <a:ext cx="550548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Cominciò la sua opera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accogliendo giovani alla ricerca di lavoro e immigrati disoccupati</a:t>
            </a:r>
            <a:r>
              <a:rPr b="0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li radunò, cercò lavoro per lor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tentò di offrire loro laboratori dove potessero </a:t>
            </a: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imparare un lavoro</a:t>
            </a: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 e </a:t>
            </a: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ricevere una formazione religiosa e morale adeguata</a:t>
            </a: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magine 3" descr="donbosco 13a.jpg"/>
          <p:cNvPicPr/>
          <p:nvPr/>
        </p:nvPicPr>
        <p:blipFill>
          <a:blip r:embed="rId1"/>
          <a:stretch/>
        </p:blipFill>
        <p:spPr>
          <a:xfrm>
            <a:off x="0" y="1116000"/>
            <a:ext cx="34876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13840" y="171000"/>
            <a:ext cx="471348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Sin dall'inizi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l'impegno per i giovani operai è un aspetto essenziale della missione salesi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e si esprime, in modo particolare, nell'abbondante numero di scuole professionali e iniziative simil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magine 5" descr="donbosco 17.gif"/>
          <p:cNvPicPr/>
          <p:nvPr/>
        </p:nvPicPr>
        <p:blipFill>
          <a:blip r:embed="rId1"/>
          <a:stretch/>
        </p:blipFill>
        <p:spPr>
          <a:xfrm>
            <a:off x="4927680" y="785880"/>
            <a:ext cx="418284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13840" y="171000"/>
            <a:ext cx="4713480" cy="652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So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 u="sng">
                <a:solidFill>
                  <a:srgbClr val="ffff00"/>
                </a:solidFill>
                <a:uFillTx/>
                <a:latin typeface="Calibri"/>
              </a:rPr>
              <a:t>una delle caratterist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più note dei Salesiani in molti paesi, soprattutto quelli in via di svilup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800" spc="-1" strike="noStrike">
                <a:solidFill>
                  <a:srgbClr val="ffff00"/>
                </a:solidFill>
                <a:latin typeface="Calibri"/>
              </a:rPr>
              <a:t>Don Pascual Cha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800" spc="-1" strike="noStrike">
                <a:solidFill>
                  <a:srgbClr val="ffff00"/>
                </a:solidFill>
                <a:latin typeface="Calibri"/>
              </a:rPr>
              <a:t>Rettor Maggiore</a:t>
            </a:r>
            <a:r>
              <a:rPr b="0" lang="it-IT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magine 5" descr="donbosco 17.gif"/>
          <p:cNvPicPr/>
          <p:nvPr/>
        </p:nvPicPr>
        <p:blipFill>
          <a:blip r:embed="rId1"/>
          <a:stretch/>
        </p:blipFill>
        <p:spPr>
          <a:xfrm>
            <a:off x="4927680" y="785880"/>
            <a:ext cx="418284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855600" y="360360"/>
            <a:ext cx="5162760" cy="63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I CENTRI DI FORMAZIONE PROFESSIONALE</a:t>
            </a:r>
            <a:br>
              <a:rPr sz="3000"/>
            </a:b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ffrono educazione sistematica,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alibri"/>
              </a:rPr>
              <a:t>ispirata ai valori evangelici, secondo lo spirito e la pedagogia salesiana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 promuovono un’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educazione popolare attenta ai giovani più bisognosi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, alla loro 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formazione professionale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 e all’</a:t>
            </a: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accompagnamento nel loro inserimento nel mondo del lavo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magine 3" descr="080.tif"/>
          <p:cNvPicPr/>
          <p:nvPr/>
        </p:nvPicPr>
        <p:blipFill>
          <a:blip r:embed="rId1"/>
          <a:stretch/>
        </p:blipFill>
        <p:spPr>
          <a:xfrm>
            <a:off x="0" y="376200"/>
            <a:ext cx="38559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855600" y="360360"/>
            <a:ext cx="5162760" cy="63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GRAZI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magine 3" descr="080.tif"/>
          <p:cNvPicPr/>
          <p:nvPr/>
        </p:nvPicPr>
        <p:blipFill>
          <a:blip r:embed="rId1"/>
          <a:stretch/>
        </p:blipFill>
        <p:spPr>
          <a:xfrm>
            <a:off x="0" y="376200"/>
            <a:ext cx="38559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173040" y="163080"/>
            <a:ext cx="5767560" cy="652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Una Congregazione di religiosi consacrati all’educazione dei giov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Fondati da San Giovanni Bosco – Don Bosco – nel 18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Oggi sono più di 15000 membri in 132 pa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magine 3" descr="donbosco 1.jpg"/>
          <p:cNvPicPr/>
          <p:nvPr/>
        </p:nvPicPr>
        <p:blipFill>
          <a:blip r:embed="rId1"/>
          <a:stretch/>
        </p:blipFill>
        <p:spPr>
          <a:xfrm>
            <a:off x="34920" y="1117440"/>
            <a:ext cx="3138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114360" y="120240"/>
            <a:ext cx="5886360" cy="66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Il Dicastero per la Pastorale Giovan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È un settore del governo centrale dei Salesiani di Don Bosco che cura i seguenti settor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Scu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Univers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Oratori, Centri giovan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Parrocch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Emarginazione, Giovani a risch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Volontari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Animazione Vocaz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magine 3" descr="donbosco 2.jpg"/>
          <p:cNvPicPr/>
          <p:nvPr/>
        </p:nvPicPr>
        <p:blipFill>
          <a:blip r:embed="rId1"/>
          <a:stretch/>
        </p:blipFill>
        <p:spPr>
          <a:xfrm>
            <a:off x="25560" y="1085760"/>
            <a:ext cx="2960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magine 4" descr="donbosco 4.jpg"/>
          <p:cNvPicPr/>
          <p:nvPr/>
        </p:nvPicPr>
        <p:blipFill>
          <a:blip r:embed="rId1"/>
          <a:stretch/>
        </p:blipFill>
        <p:spPr>
          <a:xfrm>
            <a:off x="2805120" y="119160"/>
            <a:ext cx="331776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3"/>
          <p:cNvSpPr/>
          <p:nvPr/>
        </p:nvSpPr>
        <p:spPr>
          <a:xfrm>
            <a:off x="376200" y="415476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ZA NEL SETTORE D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MAZIONE PROFESS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4"/>
          <p:cNvSpPr/>
          <p:nvPr/>
        </p:nvSpPr>
        <p:spPr>
          <a:xfrm>
            <a:off x="492120" y="4211640"/>
            <a:ext cx="773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EUROPA N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30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4" descr="donbosco 4.jpg"/>
          <p:cNvPicPr/>
          <p:nvPr/>
        </p:nvPicPr>
        <p:blipFill>
          <a:blip r:embed="rId1"/>
          <a:stretch/>
        </p:blipFill>
        <p:spPr>
          <a:xfrm>
            <a:off x="2805120" y="119160"/>
            <a:ext cx="33177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8" descr="donbosco 26.jpg"/>
          <p:cNvPicPr/>
          <p:nvPr/>
        </p:nvPicPr>
        <p:blipFill>
          <a:blip r:embed="rId1"/>
          <a:stretch/>
        </p:blipFill>
        <p:spPr>
          <a:xfrm>
            <a:off x="2908440" y="0"/>
            <a:ext cx="3047760" cy="388764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3"/>
          <p:cNvSpPr/>
          <p:nvPr/>
        </p:nvSpPr>
        <p:spPr>
          <a:xfrm>
            <a:off x="480960" y="3887640"/>
            <a:ext cx="80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TALIA – MEDIO OR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13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magine 5" descr="donbosco 23.gif"/>
          <p:cNvPicPr/>
          <p:nvPr/>
        </p:nvPicPr>
        <p:blipFill>
          <a:blip r:embed="rId1"/>
          <a:srcRect l="0" t="0" r="50726" b="0"/>
          <a:stretch/>
        </p:blipFill>
        <p:spPr>
          <a:xfrm>
            <a:off x="3084480" y="0"/>
            <a:ext cx="2970360" cy="405432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9"/>
          <p:cNvSpPr/>
          <p:nvPr/>
        </p:nvSpPr>
        <p:spPr>
          <a:xfrm>
            <a:off x="504720" y="4125960"/>
            <a:ext cx="8164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EUROPA O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(SPAGNA, FRANCIA, PORTOGAL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Allievi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1900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sellaDiTesto 9"/>
          <p:cNvSpPr/>
          <p:nvPr/>
        </p:nvSpPr>
        <p:spPr>
          <a:xfrm>
            <a:off x="414360" y="4336200"/>
            <a:ext cx="8319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AFRICA / MADAGA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entro Professional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159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5" descr="donbosco 23.gif"/>
          <p:cNvPicPr/>
          <p:nvPr/>
        </p:nvPicPr>
        <p:blipFill>
          <a:blip r:embed="rId1"/>
          <a:srcRect l="0" t="0" r="50726" b="0"/>
          <a:stretch/>
        </p:blipFill>
        <p:spPr>
          <a:xfrm>
            <a:off x="3084480" y="0"/>
            <a:ext cx="29703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3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magine 6" descr="SDB-1058.gif"/>
          <p:cNvPicPr/>
          <p:nvPr/>
        </p:nvPicPr>
        <p:blipFill>
          <a:blip r:embed="rId1"/>
          <a:stretch/>
        </p:blipFill>
        <p:spPr>
          <a:xfrm>
            <a:off x="2344680" y="0"/>
            <a:ext cx="4051440" cy="3741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4760" y="3949200"/>
            <a:ext cx="89251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INTER AMER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Centri Professional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Allievi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it-IT" sz="3600" spc="-1" strike="noStrike">
                <a:solidFill>
                  <a:srgbClr val="ffff00"/>
                </a:solidFill>
                <a:latin typeface="Calibri"/>
              </a:rPr>
              <a:t>3006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0:47:53Z</dcterms:created>
  <dc:creator>Fabio Attard</dc:creator>
  <dc:description/>
  <dc:language>en-US</dc:language>
  <cp:lastModifiedBy>Fabio Attard</cp:lastModifiedBy>
  <dcterms:modified xsi:type="dcterms:W3CDTF">2011-01-14T07:51:35Z</dcterms:modified>
  <cp:revision>8</cp:revision>
  <dc:subject/>
  <dc:title>Diapositiva 1</dc:title>
</cp:coreProperties>
</file>