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18AD-A240-4FC0-9D6E-D1D818A3D48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84CE-375E-48FB-8802-EC68EA44969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218D-A90C-464D-A6A8-6E60FB688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C28D-5749-4B25-930A-FD85D8A6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2CEA-AB67-410D-B8C4-C1C98433A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E7AB-3338-4F18-8107-88F473DF9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F4F4-C76C-4577-A34D-1AB9D595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EAC5-8ACC-4FAB-9F63-F7BC523F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D657-949E-48E9-A091-A09FC709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BDE1-13AE-4120-8681-60DA51F3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D286-B0A4-437D-BA1B-7EDA39F4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E1F8-400A-4097-BAC8-05711A5F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65A6-AB32-4F8B-AD39-9C4F863C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F9C5-3425-43DF-9B3D-69B77BD9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3A1B-DE4A-48B5-AAF1-6C9FE07AE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40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540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54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0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54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Downloader?d=libero"/>
          <p:cNvPicPr/>
          <p:nvPr/>
        </p:nvPicPr>
        <p:blipFill>
          <a:blip r:embed="rId2"/>
          <a:stretch/>
        </p:blipFill>
        <p:spPr>
          <a:xfrm>
            <a:off x="7850160" y="255600"/>
            <a:ext cx="1297080" cy="652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ismu.it/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71600" y="377640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8080"/>
                </a:solidFill>
                <a:latin typeface="Arial"/>
              </a:rPr>
              <a:t>prof. Vincenzo</a:t>
            </a:r>
            <a:r>
              <a:rPr b="0" lang="it-IT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8080"/>
                </a:solidFill>
                <a:latin typeface="Arial"/>
              </a:rPr>
              <a:t>Cesare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8080"/>
                </a:solidFill>
                <a:latin typeface="Arial"/>
              </a:rPr>
              <a:t>Fondazione Ism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8080"/>
                </a:solidFill>
                <a:latin typeface="Arial"/>
              </a:rPr>
              <a:t>Iniziative e Studi sulla Multietnicità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50920" y="134136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99"/>
                </a:solidFill>
                <a:latin typeface="Arial Unicode MS"/>
              </a:rPr>
              <a:t>XVII Rapporto sulle migrazioni 20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F4E2-791B-4644-8324-BA49723D230D}" type="slidenum">
              <a:t>1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Alcune considerazioni fina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ol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cietà civ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ncipio di sussidiariet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rticale e orizzont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esione soc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DBA7-A5AE-40F9-8D13-6BF06DBA84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92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Grazie per l’atten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ismu.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Il quadro gene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l 1° gennaio 2011 sono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5,4 milioni gli stranier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(regolari e irregolari) presenti in It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quasi totalità (95%) proviene da Pf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1998-65F1-4493-BA5F-910C6C2CFB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Irregola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43 mila stranier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no privi di un valido permesso di soggiorno (- 11mila unità rispetto l’anno preceden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D523-4360-4948-889B-049A25C6DF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Segnali di una sempre maggiore stabilizzazione della presenza strani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mentano gl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anieri residen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4,5 milion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scono l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migl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 almeno un membro straniero (500mila) o costituite da soli stranieri (1,6 milion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menta il numero dell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miglie con abitazione di propriet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ltre il 15% soli stranieri; 50% famiglie mis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F4AD-FB1F-4228-A8CB-EF3958890E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9999"/>
                </a:solidFill>
                <a:latin typeface="Arial"/>
              </a:rPr>
              <a:t>Altri dati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menta il numero delle famiglie che vivono in condizione d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rivazione materia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3 su 8 composte da soli stranieri; 1 su 4 famiglie mis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vata mobilit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l territorio italiano (incidenza più che doppia rispetto agli italian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ccupazione stranie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gge alla crisi economica e aumenta, al contrario di quella itali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3E70-D26A-452F-B4C5-873FC96E03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La crescita “rallentat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corso del 2011 si è assistito al primo vero e propri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llentamento della velocità di crescit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70mila presenze in più rispetto l’anno preceden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8C01-657D-4945-A767-395CEBEB25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9999"/>
                </a:solidFill>
                <a:latin typeface="Arial"/>
              </a:rPr>
              <a:t>Dal Rapporto “</a:t>
            </a:r>
            <a:r>
              <a:rPr b="1" i="1" lang="it-IT" sz="2800" spc="-1" strike="noStrike">
                <a:solidFill>
                  <a:srgbClr val="009999"/>
                </a:solidFill>
                <a:latin typeface="Arial"/>
              </a:rPr>
              <a:t>Alunni con cittadinanza non italiana. A.s. 2010/2011</a:t>
            </a:r>
            <a:r>
              <a:rPr b="1" lang="it-IT" sz="2800" spc="-1" strike="noStrike">
                <a:solidFill>
                  <a:srgbClr val="009999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511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lunni con cittadinanza non italiana sono il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7,9%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el totale popolazione scola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.s. 2010/2011: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711.064 alunni con cittadinanza non itali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.s. 2010/2011: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300mila alunni con cittadinanza non italiana nati in It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724360" y="2060640"/>
            <a:ext cx="2718000" cy="378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78A5-7D84-4DC2-A002-125165F8DD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I fatti dell’an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si Nord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biamenti normat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battito sulla cittadina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147F-5F4F-49DA-BFDA-DD6A21D58B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Due questioni europ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tegrazione come processo a tre vi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(v. Agenda europea per l’integrazione, luglio 20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Modelli di integrazione e </a:t>
            </a: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36AD-1ED1-43D6-B820-213E73224A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13:50:00Z</dcterms:created>
  <dc:creator>v.riniolo</dc:creator>
  <dc:description/>
  <dc:language>en-US</dc:language>
  <cp:lastModifiedBy>v.riniolo</cp:lastModifiedBy>
  <dcterms:modified xsi:type="dcterms:W3CDTF">2011-12-11T20:41:06Z</dcterms:modified>
  <cp:revision>15</cp:revision>
  <dc:subject/>
  <dc:title>Diapositiva 1</dc:title>
</cp:coreProperties>
</file>