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camera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D3621-35FB-432C-823A-8C5AC4B55D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D4033F-40E8-4676-A710-D5AD8C1AC3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8F5B1-A509-42F4-AF9D-98E534620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37930-0EDF-445A-B021-1919908D23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97CFB9-1BC3-4D1D-A2C8-F2152BBB6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8C25CF-E252-480A-B820-7CAC18A9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6147AF-2BDD-4383-9C7B-D76489FB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DBFF9-3CF1-4D12-8157-FD72D2FB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F2A1B-CDBE-4388-95F8-B77A17FB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2EC5E-3279-4843-B429-0DAD155C6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6DB844-3CB4-42CE-98CA-D67DFEA9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06CCD-5D99-45E9-B3BE-0F29735B6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041818-EECE-445B-B4B3-3ECB923D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F9DF0A-A7CD-4159-9A61-D5D96CD43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AE15A-DDAC-4CC4-8962-FD28D7A28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B8CEC6-C68A-41AC-9870-51511CBE5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1045A7-11E1-4AAD-BF48-9BC5F2AE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0468C-FE4D-4BCD-9E41-3C1F2ED74E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7DAB5-511E-4A3A-9414-BC195CCCFB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D5AA5-C07E-4D3B-A0C9-DF4403AF0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7467-AB1E-4236-86F6-B948AF4911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B99AB-B24A-4F5E-87ED-3B5270A9F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F30F6-B2EF-4589-AC75-66AC08F8A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F9E90-FE5F-4A40-87DD-52DD4407FC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22D1-8FAC-4429-8091-54CBE7E92874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4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A5B1-D6B3-45B4-BC72-4F1F28C68C3E}" type="datetime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6B99-DFCB-49C3-A54B-C6C2A6B9870D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219320" y="2514240"/>
            <a:ext cx="64008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c00"/>
                </a:solidFill>
                <a:latin typeface="Times New Roman"/>
              </a:rPr>
              <a:t>LA COMUNICAZIONE TRA PERSONALE SANITARIO E PAZIENTI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BB7DA-06C9-45CC-B6CF-8576566884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Cosa fa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Data questa situazione di insoddisfazione bilaterale, è possibile che  una </a:t>
            </a:r>
            <a:r>
              <a:rPr b="1" lang="it-IT" sz="3200" spc="-1" strike="noStrike">
                <a:solidFill>
                  <a:srgbClr val="ffcc66"/>
                </a:solidFill>
                <a:latin typeface="Times New Roman"/>
              </a:rPr>
              <a:t>comunicazione più efficac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 migliori la relazione del sistema medico-paziente- personale ausiliario gratificando i singoli sia sotto il profilo relazionale che uman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B45AA-9E65-4684-A1EA-B5DDAC22B1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Come fare a comunicare efficacement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28191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25909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L’inizio di un’abitudine è come un filo invisibile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ma ogni volta che ripetiamo l’azione rinforziamo quel filo, vi aggiungiamo un altro filament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finchè esso  non diventa una grossa fu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che ci lega definitivamente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ensiero e azi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(O.S.Marden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4C975-FDFE-49CA-B151-920D52921CAB}" type="slidenum">
              <a:t>11</a:t>
            </a:fld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Presupposti della 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Times New Roman"/>
              </a:rPr>
              <a:t>Ogni comportamento è comunicazione non si può non comunicar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Non esiste una comunicazione corretta o sbagliata. Il significato di un comunicato è definito dalla risposta che ott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Il buon comunicatore si assume al 100% la responsabilità dei risultati che ott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2BB48-D18D-4A54-89B8-7C66DCF930D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Presupposti della 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Ogni comportamento è comunicazione non si può non comuni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Times New Roman"/>
              </a:rPr>
              <a:t>Non esiste una comunicazione corretta o sbagliata. Il significato di un comunicato è definito dalla risposta che ottien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Il buon comunicatore si assume al 100% la responsabilità dei risultati che ott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55CEE-C3BA-481A-AB62-7E7803D43AC0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Presupposti della 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Ogni comportamento è comunicazione non si può non comunic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66ff"/>
                </a:solidFill>
                <a:latin typeface="Times New Roman"/>
              </a:rPr>
              <a:t>Non esiste una comunicazione corretta o sbagliata. Il significato di un comunicato è definito dalla risposta che ottie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ff"/>
                </a:solidFill>
                <a:latin typeface="Times New Roman"/>
              </a:rPr>
              <a:t>Il buon comunicatore si assume al 100% la responsabilità dei risultati che ottien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363CA-F1D6-4922-A034-9DE0A05D56B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mpatto comunicativo  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4956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V= contenuto verbale, cosa diciamo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PV= paraverbale(tono, volume, ritmo…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NV= non verbale(postura, mimica, gestualità…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1905120"/>
            <a:ext cx="3733920" cy="4114800"/>
          </a:xfrm>
          <a:prstGeom prst="triangle">
            <a:avLst>
              <a:gd name="adj" fmla="val 50000"/>
            </a:avLst>
          </a:prstGeom>
          <a:solidFill>
            <a:srgbClr val="cce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352680"/>
            <a:ext cx="3579840" cy="100080"/>
          </a:xfrm>
          <a:custGeom>
            <a:avLst/>
            <a:gdLst/>
            <a:ahLst/>
            <a:rect l="l" t="t" r="r" b="b"/>
            <a:pathLst>
              <a:path w="4426" h="176">
                <a:moveTo>
                  <a:pt x="44" y="6"/>
                </a:moveTo>
                <a:cubicBezTo>
                  <a:pt x="188" y="62"/>
                  <a:pt x="0" y="0"/>
                  <a:pt x="180" y="17"/>
                </a:cubicBezTo>
                <a:cubicBezTo>
                  <a:pt x="197" y="19"/>
                  <a:pt x="209" y="34"/>
                  <a:pt x="225" y="40"/>
                </a:cubicBezTo>
                <a:cubicBezTo>
                  <a:pt x="243" y="47"/>
                  <a:pt x="313" y="59"/>
                  <a:pt x="327" y="62"/>
                </a:cubicBezTo>
                <a:cubicBezTo>
                  <a:pt x="406" y="53"/>
                  <a:pt x="499" y="26"/>
                  <a:pt x="575" y="51"/>
                </a:cubicBezTo>
                <a:cubicBezTo>
                  <a:pt x="660" y="37"/>
                  <a:pt x="738" y="45"/>
                  <a:pt x="823" y="62"/>
                </a:cubicBezTo>
                <a:cubicBezTo>
                  <a:pt x="982" y="55"/>
                  <a:pt x="1119" y="41"/>
                  <a:pt x="1275" y="28"/>
                </a:cubicBezTo>
                <a:cubicBezTo>
                  <a:pt x="1452" y="55"/>
                  <a:pt x="1638" y="16"/>
                  <a:pt x="1817" y="6"/>
                </a:cubicBezTo>
                <a:cubicBezTo>
                  <a:pt x="1832" y="13"/>
                  <a:pt x="1847" y="23"/>
                  <a:pt x="1863" y="28"/>
                </a:cubicBezTo>
                <a:cubicBezTo>
                  <a:pt x="1881" y="34"/>
                  <a:pt x="1902" y="32"/>
                  <a:pt x="1919" y="40"/>
                </a:cubicBezTo>
                <a:cubicBezTo>
                  <a:pt x="1936" y="48"/>
                  <a:pt x="1946" y="69"/>
                  <a:pt x="1964" y="73"/>
                </a:cubicBezTo>
                <a:cubicBezTo>
                  <a:pt x="2008" y="84"/>
                  <a:pt x="2055" y="81"/>
                  <a:pt x="2100" y="85"/>
                </a:cubicBezTo>
                <a:cubicBezTo>
                  <a:pt x="2447" y="71"/>
                  <a:pt x="2485" y="63"/>
                  <a:pt x="2868" y="73"/>
                </a:cubicBezTo>
                <a:cubicBezTo>
                  <a:pt x="3372" y="176"/>
                  <a:pt x="2943" y="96"/>
                  <a:pt x="4178" y="85"/>
                </a:cubicBezTo>
                <a:cubicBezTo>
                  <a:pt x="4185" y="74"/>
                  <a:pt x="4187" y="54"/>
                  <a:pt x="4200" y="51"/>
                </a:cubicBezTo>
                <a:cubicBezTo>
                  <a:pt x="4213" y="48"/>
                  <a:pt x="4221" y="72"/>
                  <a:pt x="4234" y="73"/>
                </a:cubicBezTo>
                <a:cubicBezTo>
                  <a:pt x="4298" y="79"/>
                  <a:pt x="4362" y="73"/>
                  <a:pt x="4426" y="73"/>
                </a:cubicBezTo>
              </a:path>
            </a:pathLst>
          </a:custGeom>
          <a:noFill/>
          <a:ln w="93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2514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cons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3581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incons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4800600"/>
            <a:ext cx="2666880" cy="0"/>
          </a:xfrm>
          <a:prstGeom prst="line">
            <a:avLst/>
          </a:prstGeom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30481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23880" y="43434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</a:rPr>
              <a:t>PARA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90720" y="54100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NON VERBA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1080" y="37339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38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05120" y="49528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5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7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3A9A0-9E2A-45AD-8CE8-74D8174A24AD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Matrice della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295280" y="2209680"/>
          <a:ext cx="6629400" cy="2286000"/>
        </p:xfrm>
        <a:graphic>
          <a:graphicData uri="http://schemas.openxmlformats.org/drawingml/2006/table">
            <a:tbl>
              <a:tblPr/>
              <a:tblGrid>
                <a:gridCol w="1585800"/>
                <a:gridCol w="2594160"/>
                <a:gridCol w="2449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ut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3962520" y="3124080"/>
            <a:ext cx="380880" cy="1143000"/>
          </a:xfrm>
          <a:prstGeom prst="upDownArrow">
            <a:avLst>
              <a:gd name="adj1" fmla="val 50000"/>
              <a:gd name="adj2" fmla="val 59741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19320" y="5013360"/>
            <a:ext cx="70866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Situazione ottim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Si raggiungono ris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Stato d’animo: beness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Posizione reciproca: par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8AEC9-0F59-4987-9BCB-D6F2124707F5}" type="slidenum">
              <a:t>16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Matrice della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295280" y="2209680"/>
          <a:ext cx="6629400" cy="2286000"/>
        </p:xfrm>
        <a:graphic>
          <a:graphicData uri="http://schemas.openxmlformats.org/drawingml/2006/table">
            <a:tbl>
              <a:tblPr/>
              <a:tblGrid>
                <a:gridCol w="1585800"/>
                <a:gridCol w="2594160"/>
                <a:gridCol w="2449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ut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"/>
          <p:cNvSpPr/>
          <p:nvPr/>
        </p:nvSpPr>
        <p:spPr>
          <a:xfrm>
            <a:off x="1295280" y="5013360"/>
            <a:ext cx="6629400" cy="14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Situazione di scont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Non si producono ris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Stato d’animo: tensione/maless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Posizione reciproca: disparità one up/one dow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                                  </a:t>
            </a: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escalation simmetrica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080" y="3124080"/>
            <a:ext cx="381240" cy="1143000"/>
          </a:xfrm>
          <a:prstGeom prst="upDownArrow">
            <a:avLst>
              <a:gd name="adj1" fmla="val 50000"/>
              <a:gd name="adj2" fmla="val 59684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12447-5EDA-4CCE-AB4E-D547DF263389}" type="slidenum">
              <a:t>17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Matrice della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295280" y="2209680"/>
          <a:ext cx="6629400" cy="2286000"/>
        </p:xfrm>
        <a:graphic>
          <a:graphicData uri="http://schemas.openxmlformats.org/drawingml/2006/table">
            <a:tbl>
              <a:tblPr/>
              <a:tblGrid>
                <a:gridCol w="1585800"/>
                <a:gridCol w="2594160"/>
                <a:gridCol w="2449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ut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4" name=""/>
          <p:cNvSpPr/>
          <p:nvPr/>
        </p:nvSpPr>
        <p:spPr>
          <a:xfrm rot="17975400">
            <a:off x="5295960" y="2552400"/>
            <a:ext cx="381240" cy="2438640"/>
          </a:xfrm>
          <a:prstGeom prst="upDownArrow">
            <a:avLst>
              <a:gd name="adj1" fmla="val 50000"/>
              <a:gd name="adj2" fmla="val 12734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371600" y="5029200"/>
            <a:ext cx="662940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Situazione di confro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Probabile produzione di risultat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Stato d’animo: beness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ffff"/>
                </a:solidFill>
                <a:latin typeface="Times New Roman"/>
              </a:rPr>
              <a:t>Posizione reciproca: pari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74223-F832-42E9-9219-36AAB6FDEFF7}" type="slidenum">
              <a:t>18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Matrice della comunicaz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295280" y="2209680"/>
          <a:ext cx="6629400" cy="2286000"/>
        </p:xfrm>
        <a:graphic>
          <a:graphicData uri="http://schemas.openxmlformats.org/drawingml/2006/table">
            <a:tbl>
              <a:tblPr/>
              <a:tblGrid>
                <a:gridCol w="1585800"/>
                <a:gridCol w="2594160"/>
                <a:gridCol w="2449440"/>
              </a:tblGrid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ccord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lazio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tenuto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 rot="4178400">
            <a:off x="5333400" y="2438280"/>
            <a:ext cx="380880" cy="2514600"/>
          </a:xfrm>
          <a:prstGeom prst="upDownArrow">
            <a:avLst>
              <a:gd name="adj1" fmla="val 50000"/>
              <a:gd name="adj2" fmla="val 131430"/>
            </a:avLst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5013360"/>
            <a:ext cx="670536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Situazione di indefinita precariet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La produzione di risultati perde importan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Stato d’animo: disorientamento/maless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33"/>
                </a:solidFill>
                <a:latin typeface="Times New Roman"/>
              </a:rPr>
              <a:t>Posizione reciproca: disparità one up/one down</a:t>
            </a:r>
            <a:r>
              <a:rPr b="0" lang="it-IT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FFE9FD-4995-41C6-A4E0-FD7B22B0C7FB}" type="slidenum">
              <a:t>19</a:t>
            </a:fld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nsoddisfazio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4E703-F4B2-4A1C-BFA7-E9C9BD8BD61B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Relazione o rappor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na buona relazione non è legata alla casualità: occorre eseguire una sequenza precisa di azioni per conseguir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È importante sintonizzarsi  sulla“mappa del mondo” dell’interlocutore perché questi si senta riconosciuto ed accetta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495680" y="2133720"/>
            <a:ext cx="4114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C743A-BAF7-4D58-8A79-9676AB9A7ECA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mappa del mon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E’costituita da credenze, convinzioni,  emozioni e sentimenti che definiscono valori e metaprogramm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</a:rPr>
              <a:t>Ad essa ci riferiamo per orientarci nella realtà determinando scelte e percezion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648320" y="1828800"/>
            <a:ext cx="41148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C40606-402A-4534-B56C-E5BDA9F98924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mappa del visiv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 dia un occhiata, adesso le faccio vedere dove è il problema….ho un fastidio accecante qui… magari le ho illustrato un quadro un po’ confuso… ma vorrei vedere un po’ il suo punto di vista….vorrei che mi illuminasse…che mi mettesse a fuoco…illustrandomi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10320" y="1905120"/>
            <a:ext cx="14526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8CBFA-FCF1-4FC1-99D1-AC59864023A6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mappa dell’auditiv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Mi ascolti… ho un dolore sordo…mi sento un po’ stonato…una situazione da urlo…mi sento giù di tono…come una forte sensazione acuta…ho ascoltato un suo collega, mi ha risposto con un grugnito…non è che voglia amplificare le cose… vorrei ascoltare  il suo parere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3809880" cy="136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FD72E-D78F-4982-B06F-A2E2FBDCA891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mappa del cenestesico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Ho una sensazione…non mi tocchi lì … se preme mi fa male… ho sentito che è proprio lì che mi duole…ho anche una sensazione di malessere generale…sento calore…come se qualcosa stringesse…mi fa sudare freddo…come se una lama mi penetrasse…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876920" y="1828800"/>
            <a:ext cx="319716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329D-A150-4110-84FE-D35014E01CF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Suggerimenti e atteggiamenti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paziente, anche quando è in stato di incoscienza, continua ad elaborare da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drammatizzare senza banalizz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ccuparsi del ferito e non della ferita, del malato e non della malat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 caso di traumi dolorosi evitare di focalizzare l’attenzione del paziente sulla zona dolente, riportando la sua attenzione su ciò che è sa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CF084-7ACB-4558-B9FD-0DE31F66BFA4}" type="slidenum">
              <a:t>25</a:t>
            </a:fld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8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Suggerimenti e atteggiamenti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438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l nostro inconscio e quello del paziente non conosce il neg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a mente conscia può elaborare 7+/-2 informazioni: se diamo informazioni teniamo conto di questo lim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Ogni comunicazione influenza: attenzione alle suggestioni di malesser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vitare di passivizzare il paziente, ma attivarlo nel processo di guarig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74480-5B70-4AA5-847B-D4E5A641E431}" type="slidenum">
              <a:t>2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Conclusio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2438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000" spc="-1" strike="noStrike">
                <a:solidFill>
                  <a:srgbClr val="ffcc66"/>
                </a:solidFill>
                <a:latin typeface="Times New Roman"/>
              </a:rPr>
              <a:t>CONTRARIAMENTE ALLA CONVINZIONE DI MOLTI I RISULTATI CHE OTTENIAMO (O CHE NON OTTENIAMO) DIPENDONO DAL </a:t>
            </a:r>
            <a:r>
              <a:rPr b="1" i="1" lang="it-IT" sz="3400" spc="-1" strike="noStrike">
                <a:solidFill>
                  <a:srgbClr val="ffffcc"/>
                </a:solidFill>
                <a:latin typeface="Times New Roman"/>
              </a:rPr>
              <a:t>NOSTRO</a:t>
            </a:r>
            <a:r>
              <a:rPr b="1" i="1" lang="it-IT" sz="3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i="1" lang="it-IT" sz="3400" spc="-1" strike="noStrike">
                <a:solidFill>
                  <a:srgbClr val="ffffcc"/>
                </a:solidFill>
                <a:latin typeface="Times New Roman"/>
              </a:rPr>
              <a:t>FARE</a:t>
            </a:r>
            <a:r>
              <a:rPr b="1" i="1" lang="it-IT" sz="3000" spc="-1" strike="noStrike">
                <a:solidFill>
                  <a:srgbClr val="ffcc66"/>
                </a:solidFill>
                <a:latin typeface="Times New Roman"/>
              </a:rPr>
              <a:t>, CIOE’ DAL NOSTRO COMPORTAMENTO E NON DAL NOSTRO ESSERE…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AF854-026A-4693-88E2-90FB7E25AEC2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nsoddisfazio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egli ut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e ricerche documentano 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ra gli utenti dei servi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anitari è forte la perce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 una progre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minuzione di vicin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motiva e fisica da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gli operatori sanitari neg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ltimi ann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F2A81-9A72-491E-B37A-79CD3C624FA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Insoddisfazione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egli utent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Le ricerche documentano 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fra gli utenti dei serviz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anitari è forte la percezi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 una progre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iminuzione di vicinanz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emotiva e fisica da pa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gli operatori sanitari negl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ltimi ann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Degli operatori sanitar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Una progress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insoddisfazione 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motivazione fra 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personale sanitario c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sempre più spesso è vitti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</a:rPr>
              <a:t>della sindrome “burn out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5703A-3235-48CB-A022-16DBE0BCB32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66"/>
                </a:solidFill>
                <a:latin typeface="Arial"/>
              </a:rPr>
              <a:t>Cosa fare?</a:t>
            </a: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10458-E435-4E73-80D7-3209FA435FC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0" spc="-1" strike="noStrike">
                <a:solidFill>
                  <a:srgbClr val="ffcc66"/>
                </a:solidFill>
                <a:latin typeface="Arial"/>
              </a:rPr>
              <a:t>Cosa fare?</a:t>
            </a: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2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85800" y="2276640"/>
            <a:ext cx="3809880" cy="3522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238720" y="2133720"/>
            <a:ext cx="238140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MUNICAR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714920" y="4038480"/>
            <a:ext cx="359100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onVincenteMente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3A7B-A6A1-4E14-AB8A-9871C4386F44}" type="slidenum">
              <a:t>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comunicazione tra personale sanitario e pazien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’ l’asse portante di ogni rapporto, anche quello “sanitari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FEE79-03CD-456B-93DF-218D90D1FF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comunicazione tra personale sanitario e pazien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’ l’asse portante di ogni rapporto, anche quello “sanitari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buona comunicazione precede l’atto diagnostico terapeutico. L’aspetto tecnologico-strumentale è contenuto all’interno della rel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34AE6-6440-41CE-B8DB-393D707F23D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cc66"/>
                </a:solidFill>
                <a:latin typeface="Arial"/>
              </a:rPr>
              <a:t>La comunicazione tra personale sanitario e pazient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E’ l’asse portante di ogni rapporto, anche quello “sanitario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Una buona comunicazione precede l’atto diagnostico terapeutico. L’aspetto tecnologico-strumentale è contenuto all’interno della relazi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Il personale non-medico ha molta più occasione di interagire con il paziente e con i suoi famigliar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31EA7-B6B2-4D22-8A28-40BC63B78CC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cavaglia</cp:lastModifiedBy>
  <dcterms:modified xsi:type="dcterms:W3CDTF">2005-05-07T19:14:23Z</dcterms:modified>
  <cp:revision>36</cp:revision>
  <dc:subject/>
  <dc:title>Presentazione di PowerPoint</dc:title>
</cp:coreProperties>
</file>