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Presentazione personalizzata 1" id="0">
      <p:sldLst>
        <p:sld r:id="rId4"/>
        <p:sld r:id="rId22"/>
        <p:sld r:id="rId23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68E3-0A56-4D19-947C-CF856F11E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9BCE-D3AB-43CA-9E55-5D8599CC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8D4B-63B6-42B5-8527-22141279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16E4-9918-4570-B97C-F14F89DEA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26BA-4842-4F33-9742-46B09E03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E014-79D0-4C46-B88D-768D7AB5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8FB7-185A-4333-AE59-C73FE6F9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B8C8-7C65-431A-9119-FCFCF3C13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92A5E-21FA-458E-A626-0C87BF0B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1CFFD-6D29-49E9-8469-B2E6D4D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C29D-0223-4E46-B12A-6E7FBD13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AC53-D793-4751-9BCA-3519AFE2E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6782-50E4-4015-9D92-071D8778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9182-09DF-4D95-B8C5-BBAFEFB7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0356D-DDD1-48D6-8C9A-9A2CEAB76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5D78-73A5-4B0A-8EAD-DB939F223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72808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27200" y="198108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72808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227200" y="413064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2177-F6E4-47DD-83CC-AA7D0423B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BA18-0A7F-4C8D-98D5-FF48E2A0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C8C1-B2CF-40D1-84F4-52A667AC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F1DD-705B-431E-84FB-CA0DF6D3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28600" y="60912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954-E68F-4CC7-BBB4-2032F66FF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3EED-C2B7-45A1-B0EB-242FC4B8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016160" y="413064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DEC-3668-406F-9FEC-DC5EC9C0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016160" y="198108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FA9C-CAB0-45E8-A4D5-8A6CC12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1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2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61c62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84719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142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0958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07D1-000C-4603-BA3C-65B675031830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419960" y="0"/>
            <a:ext cx="1730520" cy="6858000"/>
            <a:chOff x="7419960" y="0"/>
            <a:chExt cx="1730520" cy="6858000"/>
          </a:xfrm>
        </p:grpSpPr>
        <p:sp>
          <p:nvSpPr>
            <p:cNvPr id="45" name=""/>
            <p:cNvSpPr/>
            <p:nvPr/>
          </p:nvSpPr>
          <p:spPr>
            <a:xfrm>
              <a:off x="7905960" y="0"/>
              <a:ext cx="1242720" cy="3316320"/>
            </a:xfrm>
            <a:prstGeom prst="rect">
              <a:avLst/>
            </a:prstGeom>
            <a:gradFill rotWithShape="0">
              <a:gsLst>
                <a:gs pos="0">
                  <a:srgbClr val="d8d688"/>
                </a:gs>
                <a:gs pos="100000">
                  <a:srgbClr val="4847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d2525"/>
                </a:solidFill>
                <a:latin typeface="Times New Roman"/>
              </a:endParaRPr>
            </a:p>
          </p:txBody>
        </p:sp>
        <p:pic>
          <p:nvPicPr>
            <p:cNvPr id="46" name="hokusai2" descr=""/>
            <p:cNvPicPr/>
            <p:nvPr/>
          </p:nvPicPr>
          <p:blipFill>
            <a:blip r:embed="rId2"/>
            <a:srcRect l="0" t="0" r="13899" b="31864"/>
            <a:stretch/>
          </p:blipFill>
          <p:spPr>
            <a:xfrm>
              <a:off x="7419960" y="465120"/>
              <a:ext cx="1730520" cy="6392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990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61c6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61c62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0195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d252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76B9F-0326-47DD-A79A-283335B1007F}" type="slidenum">
              <a:rPr b="0" lang="en-US" sz="1400" spc="-1" strike="noStrike">
                <a:solidFill>
                  <a:srgbClr val="2d252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d2525"/>
                </a:solidFill>
                <a:latin typeface="Times New Roman"/>
              </a:rPr>
              <a:t>Click to edit the outline text format</a:t>
            </a:r>
            <a:endParaRPr b="0" i="1" lang="en-US" sz="3200" spc="-1" strike="noStrike">
              <a:solidFill>
                <a:srgbClr val="2d2525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d2525"/>
                </a:solidFill>
                <a:latin typeface="Times New Roman"/>
              </a:rPr>
              <a:t>Second Outline Level</a:t>
            </a:r>
            <a:endParaRPr b="0" i="1" lang="en-US" sz="2800" spc="-1" strike="noStrike">
              <a:solidFill>
                <a:srgbClr val="2d2525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84719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d2525"/>
                </a:solidFill>
                <a:latin typeface="Times New Roman"/>
              </a:rPr>
              <a:t>Third Outline Level</a:t>
            </a:r>
            <a:endParaRPr b="0" i="1" lang="en-US" sz="2400" spc="-1" strike="noStrike">
              <a:solidFill>
                <a:srgbClr val="2d2525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5c6d90"/>
              </a:buClr>
              <a:buFont typeface="Wingdings" charset="2"/>
              <a:buChar char="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our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Fif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ix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2d2525"/>
              </a:buClr>
              <a:buFont typeface="Wingdings" charset="2"/>
              <a:buChar char="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d2525"/>
                </a:solidFill>
                <a:latin typeface="Times New Roman"/>
              </a:rPr>
              <a:t>Seventh Outline Level</a:t>
            </a:r>
            <a:endParaRPr b="0" i="1" lang="en-US" sz="2000" spc="-1" strike="noStrike">
              <a:solidFill>
                <a:srgbClr val="2d2525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771480"/>
            <a:ext cx="822960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18960" y="512640"/>
            <a:ext cx="850752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60520" y="563400"/>
            <a:ext cx="8024760" cy="573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680" y="498600"/>
            <a:ext cx="8001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19040" y="674640"/>
            <a:ext cx="8305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9040" y="776160"/>
            <a:ext cx="8305920" cy="531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3080" y="838080"/>
            <a:ext cx="845820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1840" y="533520"/>
            <a:ext cx="8682120" cy="557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92040" y="619200"/>
            <a:ext cx="8359920" cy="56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43080" y="457200"/>
            <a:ext cx="84582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343080" y="609480"/>
            <a:ext cx="8458200" cy="544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12640" y="533520"/>
            <a:ext cx="8118720" cy="55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66760" y="636480"/>
          <a:ext cx="8610480" cy="559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636480"/>
                    <a:ext cx="8610480" cy="559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74840" y="747720"/>
            <a:ext cx="8194320" cy="53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0440" y="495360"/>
            <a:ext cx="87631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19040" y="698400"/>
            <a:ext cx="83059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63440" y="635040"/>
            <a:ext cx="8817120" cy="55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12640" y="450720"/>
            <a:ext cx="811872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0720" y="536400"/>
            <a:ext cx="824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1183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571680"/>
            <a:ext cx="8534160" cy="57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7b4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1760" y="603360"/>
            <a:ext cx="8880480" cy="56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08:44:19Z</dcterms:created>
  <dc:creator>InstTest</dc:creator>
  <dc:description/>
  <dc:language>en-US</dc:language>
  <cp:lastModifiedBy>InstTest</cp:lastModifiedBy>
  <dcterms:modified xsi:type="dcterms:W3CDTF">2002-10-29T08:40:30Z</dcterms:modified>
  <cp:revision>70</cp:revision>
  <dc:subject/>
  <dc:title>Presentazione di PowerPoint</dc:title>
</cp:coreProperties>
</file>