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E07-76A0-4FFC-8D58-E23581B6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0D5-7686-45AA-A2DD-A76309E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D09-39EC-4C65-BFDE-A308133F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F55-EDDF-4C4C-AB20-9B71D959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9BF-2E78-41E8-B7EC-A574E728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BF48-1379-49F2-8C0C-F9EB5C7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954-8CA8-4B53-A1E0-D7279371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FBDA-4240-4A2A-9E8C-08AF548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E71-C346-4351-84CE-3FACC80F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10AB-400D-4F54-9602-1BF3D8B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1125-CA0D-4951-B4E9-96F5367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1E5-7026-43DE-BE44-D012BF2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B3C-98F6-43C7-B0CE-BA82B34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F81-9F70-43B7-8209-FE2B2D4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1CCE-A2A0-4DEB-8203-57772C7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2D94-AF37-479D-9656-363A6352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E1F-FFEB-45A7-861D-7D7022A3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9BF-83FF-419B-8649-87E1170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6C6-31D5-4DED-BA3C-7A90D967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788-B382-479E-828F-653EF19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A61-9B3B-4082-AD8C-CD096FBB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86B-0357-4874-8BD5-8224A91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803-C171-4B6A-918B-1868AEA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95B-053F-44D8-A832-9FDBC2B3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2CE-D47B-4645-AAE7-9E082D6BE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5E9A-65A5-4703-B3CA-6AACB443E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sentazione UD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05740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PORTAMATI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ORTA_MATITE__3D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ORTA_MATITE__3D" descr=""/>
          <p:cNvPicPr/>
          <p:nvPr/>
        </p:nvPicPr>
        <p:blipFill>
          <a:blip r:embed="rId1"/>
          <a:stretch/>
        </p:blipFill>
        <p:spPr>
          <a:xfrm>
            <a:off x="380880" y="631800"/>
            <a:ext cx="85345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ORTA_MATITE__3D2" descr=""/>
          <p:cNvPicPr/>
          <p:nvPr/>
        </p:nvPicPr>
        <p:blipFill>
          <a:blip r:embed="rId1"/>
          <a:stretch/>
        </p:blipFill>
        <p:spPr>
          <a:xfrm>
            <a:off x="990720" y="6285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ORTA_MATITE__3D3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6172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8:38:50Z</dcterms:created>
  <dc:creator>ospitecfp</dc:creator>
  <dc:description/>
  <dc:language>en-US</dc:language>
  <cp:lastModifiedBy>Sergio Bessone</cp:lastModifiedBy>
  <dcterms:modified xsi:type="dcterms:W3CDTF">2005-06-22T14:21:54Z</dcterms:modified>
  <cp:revision>2</cp:revision>
  <dc:subject/>
  <dc:title>Presentazione UDA </dc:title>
</cp:coreProperties>
</file>